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0E276-91C7-4BDA-A4E3-599F363A7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E06E8-0B74-484D-8A5B-E4EAC22D3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5DE32-92EF-4351-ACA2-9A042F1F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5A297-7813-4AFB-83EA-183D9A681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AD22-E677-4B48-A1FC-36206A2C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12AAC-D6B6-48E9-9E21-81B907E4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407FE-D659-495A-96CB-573505B37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BD6B-5934-4C21-B9F4-CACC3AA6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AD4B-A50B-4AA8-8283-1ABCE2C9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CEFC-D0A7-4CDD-A363-EAEF4F4EC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3ACB-83AA-4FED-B533-0AF025FB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8E65-7D8D-4D14-AF3E-C7182356F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98AA-6F8B-46F6-981F-9A77CC3F29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362400" y="3273480"/>
            <a:ext cx="241920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c126b"/>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0:58:17Z</dcterms:modified>
  <cp:revision>44</cp:revision>
  <dc:subject/>
  <dc:title>SALARIUL</dc:title>
</cp:coreProperties>
</file>